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534-3443-485F-B99D-4D76FC82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924-F40E-4C0E-835C-3B486DF7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0C5-5AA8-43DE-AC0E-B25D1916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4F0-E997-4015-B82B-4499B0D3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5FF-F4A2-46E9-8988-AFE34572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90E-9B12-4B4F-A610-F036DC15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2DF-2730-4463-9E7F-492B03B8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6E9-E661-4318-8C18-AA32FF52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499-3475-4D6F-8C2D-106CE4D0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884-7FD7-4A9D-9136-1FA706A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DED-A3DC-4C7E-8BB9-F5250ADC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F68-51A0-4954-96CA-67B150AC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C677-4709-4B19-8A82-A049013BB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Explicitly Need from Families/Par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Explicitly Need from Stu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286000" y="1752480"/>
            <a:ext cx="4800600" cy="3962520"/>
          </a:xfrm>
          <a:prstGeom prst="hexagon">
            <a:avLst>
              <a:gd name="adj" fmla="val 30288"/>
              <a:gd name="vf" fmla="val 115470"/>
            </a:avLst>
          </a:prstGeom>
          <a:solidFill>
            <a:srgbClr val="ffffff"/>
          </a:soli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590920" y="551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689880" y="5442120"/>
            <a:ext cx="161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80880" y="3308400"/>
            <a:ext cx="16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8061480" y="3308400"/>
            <a:ext cx="10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276720" y="12952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030840" y="3352680"/>
            <a:ext cx="31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ULTURALLY RESPON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TEACHING AND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80880" y="6248520"/>
            <a:ext cx="2590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 Milner, PhD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17:55:16Z</dcterms:created>
  <dc:creator>milnerhr</dc:creator>
  <dc:description/>
  <dc:language>en-US</dc:language>
  <cp:lastModifiedBy>Milner, Rich</cp:lastModifiedBy>
  <dcterms:modified xsi:type="dcterms:W3CDTF">2013-02-15T13:56:10Z</dcterms:modified>
  <cp:revision>4</cp:revision>
  <dc:subject/>
  <dc:title>What do you Explicitly Need from Families/Parents?</dc:title>
</cp:coreProperties>
</file>